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969-86AA-4C49-A66E-08C335D3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04C-6D51-4CD8-8D16-49D0D2A0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F77-F465-4ECE-98B4-DEA0DCF1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4E5-C75C-4822-9AFD-AEA0422F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A33-CBE9-42F4-ABF8-CDAFF5F8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DE2-C08E-4FFE-B1C9-6846A1D0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7E0-B6C4-42B4-9833-88610BBC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E44-5036-4DC1-B3D1-F257D0DE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520-D399-43B8-9DEC-EE5777F2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BFB-F6D4-42FB-A7F6-1A4A7BE2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2DA-A233-4FE9-A66B-B60B8BCC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47F-923A-4650-8EB9-755B6A96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r Red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763D-E0CC-4BF8-B256-4D0F2BA96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ighest Common Facto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3860280"/>
            <a:ext cx="8032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(aka Greatest Common Factor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ich one is the highest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12:1,2,3,4,6,12</a:t>
            </a: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30:1,2,3,5,6,10,15,30</a:t>
            </a: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3789360"/>
            <a:ext cx="777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7640" y="2421000"/>
            <a:ext cx="64800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8360" y="2421000"/>
            <a:ext cx="64800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7640" y="4869000"/>
            <a:ext cx="647640" cy="93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6360" y="4869000"/>
            <a:ext cx="647640" cy="93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68360" y="4797360"/>
            <a:ext cx="64800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4869000"/>
            <a:ext cx="648000" cy="93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2421000"/>
            <a:ext cx="64764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7640" y="2421000"/>
            <a:ext cx="64764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Highest Common Factor of 12 and 30 is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12:</a:t>
            </a:r>
            <a:r>
              <a:rPr b="0" lang="en-US" sz="6700" spc="-1" strike="noStrike">
                <a:solidFill>
                  <a:srgbClr val="cc0000"/>
                </a:solidFill>
                <a:latin typeface="Tahoma"/>
              </a:rPr>
              <a:t>1,2,3,4,</a:t>
            </a: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6700" spc="-1" strike="noStrike">
                <a:solidFill>
                  <a:srgbClr val="cc0000"/>
                </a:solidFill>
                <a:latin typeface="Tahoma"/>
              </a:rPr>
              <a:t>,12</a:t>
            </a: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30:</a:t>
            </a:r>
            <a:r>
              <a:rPr b="0" lang="en-US" sz="6700" spc="-1" strike="noStrike">
                <a:solidFill>
                  <a:srgbClr val="cc0000"/>
                </a:solidFill>
                <a:latin typeface="Tahoma"/>
              </a:rPr>
              <a:t>1,2,3,5,</a:t>
            </a: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6700" spc="-1" strike="noStrike">
                <a:solidFill>
                  <a:srgbClr val="cc0000"/>
                </a:solidFill>
                <a:latin typeface="Tahoma"/>
              </a:rPr>
              <a:t>,10,15,30</a:t>
            </a: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3789360"/>
            <a:ext cx="777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4869000"/>
            <a:ext cx="647640" cy="93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27640" y="2421000"/>
            <a:ext cx="64764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ing 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Find the factors of 2 numbers and then pick the highest one that they share in commo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’s Keyw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88320" y="2731320"/>
            <a:ext cx="5967360" cy="2263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est Common Fact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f all the factors that 2 numbers have in common, which one is the highes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ing up in today’s less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BrainPop Anim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Teacher demonstration on the boar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Student exercis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Student-led plenar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acher Demonstr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ctors of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x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x 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, 2, 4,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11280" y="160020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ctors of 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x 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x 2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 x 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 x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, 2, 4, 5, 8, 10, 20, 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211280" y="160020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ctors of 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x 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x 2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 x 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 x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, 2, 4, 5, 8, 10, 20, 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acher Demonstr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ctors of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x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x 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, 2, 4,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789360"/>
            <a:ext cx="43164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3789360"/>
            <a:ext cx="43164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3789360"/>
            <a:ext cx="43164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3789360"/>
            <a:ext cx="43164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4870440"/>
            <a:ext cx="43164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4869000"/>
            <a:ext cx="431640" cy="576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4869000"/>
            <a:ext cx="431640" cy="576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4869000"/>
            <a:ext cx="431640" cy="576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566100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Highest Common Factor – the biggest number that goes into both – is…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udent Exerci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lete the SAT Questions i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exam condition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cus on understanding the questions and attempting to find the answers WITHOUT help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a  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b  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c  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d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ahom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ahom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ahom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vel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68000" y="3141720"/>
            <a:ext cx="64184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understand this very w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this sort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ly understand th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8360" y="2997360"/>
            <a:ext cx="1582560" cy="3168360"/>
            <a:chOff x="468360" y="2997360"/>
            <a:chExt cx="1582560" cy="3168360"/>
          </a:xfrm>
        </p:grpSpPr>
        <p:sp>
          <p:nvSpPr>
            <p:cNvPr id="119" name=""/>
            <p:cNvSpPr/>
            <p:nvPr/>
          </p:nvSpPr>
          <p:spPr>
            <a:xfrm>
              <a:off x="468360" y="2997360"/>
              <a:ext cx="1582560" cy="3168360"/>
            </a:xfrm>
            <a:prstGeom prst="flowChartAlternateProcess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6920" y="3141720"/>
              <a:ext cx="865440" cy="86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6920" y="4149720"/>
              <a:ext cx="865440" cy="86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6920" y="5157720"/>
              <a:ext cx="865440" cy="86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39640" y="1628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upils understand the terms highest common fact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r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nd the numbers (in order of size) that go int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0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4221000"/>
            <a:ext cx="65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1, 2, 7, 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r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pe the board clean and find the numbers that go int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120"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0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4221000"/>
            <a:ext cx="65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1, 2, 4, 5, 10, 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r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pe the board clean and find the numbers that go int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120"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Tahoma"/>
              </a:rPr>
              <a:t>21</a:t>
            </a:r>
            <a:endParaRPr b="0" lang="en-US" sz="10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4221000"/>
            <a:ext cx="65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1, 3, 7, 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vide your whiteboard into two halves across the midd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3789360"/>
            <a:ext cx="777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 the top half, write the factors of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4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0000"/>
                </a:solidFill>
                <a:latin typeface="Tahoma"/>
              </a:rPr>
              <a:t>1</a:t>
            </a:r>
            <a:endParaRPr b="0" lang="en-US" sz="1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3789360"/>
            <a:ext cx="777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 the bottom half, write the factors of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4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1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3789360"/>
            <a:ext cx="777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should have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12:1,2,3,4,6,12</a:t>
            </a: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30:1,2,3,5,6,10,15,30</a:t>
            </a: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789360"/>
            <a:ext cx="777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w circle the ones that they sha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12:1,2,3,4,6,12</a:t>
            </a: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Tahoma"/>
              </a:rPr>
              <a:t>30:1,2,3,5,6,10,15,30</a:t>
            </a:r>
            <a:endParaRPr b="0" lang="en-US" sz="6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3789360"/>
            <a:ext cx="777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2421000"/>
            <a:ext cx="64800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8360" y="2421000"/>
            <a:ext cx="64800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4869000"/>
            <a:ext cx="647640" cy="93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4869000"/>
            <a:ext cx="647640" cy="93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4797360"/>
            <a:ext cx="64800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4869000"/>
            <a:ext cx="648000" cy="93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2421000"/>
            <a:ext cx="64764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2421000"/>
            <a:ext cx="647640" cy="936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8:14:32Z</dcterms:created>
  <dc:creator>Bruno Reddy</dc:creator>
  <dc:description/>
  <dc:language>en-US</dc:language>
  <cp:lastModifiedBy>Bruno Reddy</cp:lastModifiedBy>
  <dcterms:modified xsi:type="dcterms:W3CDTF">2005-02-02T23:06:25Z</dcterms:modified>
  <cp:revision>8</cp:revision>
  <dc:subject/>
  <dc:title>Highest Common Factor</dc:title>
</cp:coreProperties>
</file>